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7B5-FD67-470D-BE5D-D336CA46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AFB-B799-46C9-8902-ACE64536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1A9-5104-42CA-B15F-83DE8C4D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13B-E161-4A26-BBE5-F41A6236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E2E-778A-4E43-8474-8948A348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EF55-48E0-4C56-A644-EF258FDE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C14A-05F5-4984-A067-550B198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FFCA-661F-44C2-BE33-44AAB7E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1C31-C639-471B-B1D4-F8C7C070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D23F-6178-4FC4-AAD3-CFDD1EBD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8F8F-178E-427B-B7FB-8BA10D7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834-4054-4AD5-86A2-891615FA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DAE0-0F64-4507-96BF-79399E2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7234-6C44-4290-9FFD-AAE4DE29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CA77-A251-4436-A715-C080A37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C64E-08CB-4672-ACED-64CB160C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621B-80D3-4ED8-8AAD-8ABF89CA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FFF-6126-46F0-9B78-25791AB1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23F-B12F-4804-85F6-F825F576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2D5-A13E-4175-A37D-FCD2DB4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95E-8842-4A83-922A-6EE37BB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537-E38B-4205-96CB-AA440D3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810-CB68-4703-8050-DF11BEE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12A-8859-4469-B45E-9957DE5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851A-2D9B-4364-91A6-60DD9F82E64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0B05-6E50-4683-92FB-27A9D478EC8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Sistema Nacional de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Prevenção, Preparação e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esposta Rápida a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Emergências Ambientais (P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338360"/>
            <a:ext cx="72392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Julho 200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eparação é a Cha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preciso estar preparado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evenir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sponder rapidament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dentificar as situações de emergência antes que transformem-se em desast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preparação é a única ação que não depende de fatos extern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reparação = treinamento, simulação, compartilhar inform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97600" y="5738760"/>
          <a:ext cx="357804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0" y="5738760"/>
                    <a:ext cx="3578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Cataguazes de Papel / 200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Isso não teria acontecido se aqueles pescadores tivessem sido ouvidos e levados em consideraçã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arina Silva, Ministra do Meio Amb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Vamos sair daqui porque essa sujeira toda vai é descer rio abaix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orador a jusante da lagoa de armazenamento de residuos da Cataguazes de Pap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Um Futuro Possível a Curto Praz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0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opulações em áreas de risco: informados, preparados, cobrando e colaborando com o poder público, participando das ações locais de prevenção e resposta ráp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Competências e Competições a Resolv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ISNAMA: referência desde 1981, sem instrumentos práticos. Iniciativas dispersas no IBAMA e no M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Órgãos estaduais de meio ambiente: preparo empírico mas disper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Municípios: defesa civil, empresas e suas instal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tores recentes: ANA, SRH, CNRH, CERHs, Condemas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 Caminho: enfoques orientados para solu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incipais tipos de emerg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Transporte e Transbordo: probabilidade alt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in situ: probabilidade baix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ex situ: probabilidade alta, dano local ou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s órfãos: probabilidade alta (crescente), dano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Algumas Características do Sistema Desejad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 Financeiros: do setor privado (transporte e transbordo, depósitos in situ e ex situ) e do setor público (depósitos órfãos). Financiamento Externo em complemento a recursos próprios e de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eparação contínua a partir de um centro de referência na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itoramento (geomático) centralizado e aberto a todos os ní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ção das instalações e das populações sob risco, simultane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ticulação de alto nível e operacional entre IBAMA e 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Alguns Componentes do Siste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Sala de Situação no IBAMA, que “enfeixe” ANA, Petrobrás e outr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lefone Nacional para Emergências Ambientais por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Nacional de Identificação e Atualização de Instalações e Populações sob risco de Emergências com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de Treinamento e Aperfeiçoamento de Agentes e Populações para 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cordos Operacionais entre Agentes do SISNAMA e ANA e outros par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entro de Referência para diagnóstico/tratamento de sítios e populações contaminadas, Fundo de Remediação de Áreas Contaminadas (Superfund/USA), Linha de Financiamento BNDES para passivos ambienta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óximos Pas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define prazos e momentos –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organiza seminário com Secretários Estaduais e dirigentes de OEMAs sobr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eminário permite identificar Grupos de Trabalho para implantação do Sistema Nacional d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o Isao Kishinami</cp:lastModifiedBy>
  <dcterms:modified xsi:type="dcterms:W3CDTF">2003-07-10T12:32:41Z</dcterms:modified>
  <cp:revision>14</cp:revision>
  <dc:subject/>
  <dc:title>PowerPoint Presentation</dc:title>
</cp:coreProperties>
</file>